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87D9-79A9-4048-BFB8-2DD5F5500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186F-83F1-49A5-A713-F01815D4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0726-9960-41BC-89CE-865C99C04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4809-7AEF-4352-A87F-1AAC4B36B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A934-914A-4E5A-97A7-A41FB852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73A1-6C4C-4F1A-9550-3D6D5C4A1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6D17-42B9-4F52-9A84-9B9FB41D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368F-60D6-42A8-8E2F-6DA046FB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DA2D-28C4-4351-9692-DD4F41CF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4BB8-98DE-402F-99F9-57598DAD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3244-0486-4F2F-9DF9-3AAF523A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F190-598C-4481-AC91-EB6CCB12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6053-D40E-4A94-9E68-866A9153DC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980640"/>
            <a:ext cx="7772400" cy="294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«Применение инновационных технологий на занятиях в творческом объединении «Рукодели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000" y="4643280"/>
            <a:ext cx="532764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уркаева  Елена Васильевн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дагог дополнительного образования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КОУ ДО ДДТ ст. Старолеушков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IMG_3928.jpg"/>
          <p:cNvPicPr/>
          <p:nvPr/>
        </p:nvPicPr>
        <p:blipFill>
          <a:blip r:embed="rId1"/>
          <a:stretch/>
        </p:blipFill>
        <p:spPr>
          <a:xfrm>
            <a:off x="428760" y="285840"/>
            <a:ext cx="4349520" cy="32623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3" descr="IMG_3927.jpg"/>
          <p:cNvPicPr/>
          <p:nvPr/>
        </p:nvPicPr>
        <p:blipFill>
          <a:blip r:embed="rId2"/>
          <a:stretch/>
        </p:blipFill>
        <p:spPr>
          <a:xfrm>
            <a:off x="4000680" y="2214720"/>
            <a:ext cx="534960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43840" cy="22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удожественно- эстетическое развит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роцесс развития способностей видеть красоту окружающего мира, искусства и создавать 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2356920"/>
            <a:ext cx="797256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ктуальность проблемы художественно-эстетического развития обучающихся определяется т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что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удожественно-эстетическое развит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- важнейшая сторона воспитания личности. Оно способствует обогащению чувственного опыта, эмоциональной сферы, влияет на познание нравственной стороны действительности, повышает и познавательную актив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ктная методика характеризуе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окой коммуникативно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ражением обучающимися своих собственных мнений, чувств, мысл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тивным включением в реальную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нятием личной ответственности за поставленные ц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ь проектной деятельнос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99840"/>
            <a:ext cx="797256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условий для исследования доступных обучающимся проб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воображения и мыш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способности организовать свою работу, оценивать её результ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ть активным участником культурно - творческ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3" descr="Видео Евы 024.JPG"/>
          <p:cNvPicPr/>
          <p:nvPr/>
        </p:nvPicPr>
        <p:blipFill>
          <a:blip r:embed="rId1"/>
          <a:stretch/>
        </p:blipFill>
        <p:spPr>
          <a:xfrm>
            <a:off x="0" y="0"/>
            <a:ext cx="4500720" cy="3375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6" descr="IMG_8249.JPG"/>
          <p:cNvPicPr/>
          <p:nvPr/>
        </p:nvPicPr>
        <p:blipFill>
          <a:blip r:embed="rId2"/>
          <a:stretch/>
        </p:blipFill>
        <p:spPr>
          <a:xfrm>
            <a:off x="4500720" y="0"/>
            <a:ext cx="4429080" cy="33228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" descr=""/>
          <p:cNvPicPr/>
          <p:nvPr/>
        </p:nvPicPr>
        <p:blipFill>
          <a:blip r:embed="rId3"/>
          <a:stretch/>
        </p:blipFill>
        <p:spPr>
          <a:xfrm>
            <a:off x="14400" y="2997360"/>
            <a:ext cx="4144680" cy="3108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4"/>
          <a:stretch/>
        </p:blipFill>
        <p:spPr>
          <a:xfrm>
            <a:off x="3851280" y="2295360"/>
            <a:ext cx="50785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580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500120"/>
            <a:ext cx="81154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эстетического пространства и среды, способствующей эстетическому воспитанию, развитию самостоятельности, ответственности, культуры поведения и бесконфликтного об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ение обучающимся возможности самопознания, самореализ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эстетического чувства и художественной инициати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4" descr="20180118153234.jpg"/>
          <p:cNvPicPr/>
          <p:nvPr/>
        </p:nvPicPr>
        <p:blipFill>
          <a:blip r:embed="rId1"/>
          <a:stretch/>
        </p:blipFill>
        <p:spPr>
          <a:xfrm>
            <a:off x="428760" y="214200"/>
            <a:ext cx="2892240" cy="51436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8" descr="IMG_6783.jpg"/>
          <p:cNvPicPr/>
          <p:nvPr/>
        </p:nvPicPr>
        <p:blipFill>
          <a:blip r:embed="rId2"/>
          <a:stretch/>
        </p:blipFill>
        <p:spPr>
          <a:xfrm>
            <a:off x="3571920" y="1928880"/>
            <a:ext cx="5572080" cy="417816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" descr="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дагогические условия эффективного художественно- эстетического развития обучающих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1999800"/>
            <a:ext cx="811548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духовной атмосферы в учебном кабин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чностно-творческая организация  учебно - воспитательного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влечение в активную творческую деятель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IMG_6880.jpg"/>
          <p:cNvPicPr/>
          <p:nvPr/>
        </p:nvPicPr>
        <p:blipFill>
          <a:blip r:embed="rId1"/>
          <a:stretch/>
        </p:blipFill>
        <p:spPr>
          <a:xfrm>
            <a:off x="285840" y="42876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2" descr="IMG_6738.jpg"/>
          <p:cNvPicPr/>
          <p:nvPr/>
        </p:nvPicPr>
        <p:blipFill>
          <a:blip r:embed="rId2"/>
          <a:stretch/>
        </p:blipFill>
        <p:spPr>
          <a:xfrm>
            <a:off x="4788000" y="18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" descr=""/>
          <p:cNvPicPr/>
          <p:nvPr/>
        </p:nvPicPr>
        <p:blipFill>
          <a:blip r:embed="rId3"/>
          <a:stretch/>
        </p:blipFill>
        <p:spPr>
          <a:xfrm>
            <a:off x="2259000" y="3500280"/>
            <a:ext cx="49770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9:05:21Z</dcterms:created>
  <dc:creator>Елена</dc:creator>
  <dc:description/>
  <dc:language>en-US</dc:language>
  <cp:lastModifiedBy>Admin</cp:lastModifiedBy>
  <dcterms:modified xsi:type="dcterms:W3CDTF">2007-03-26T20:50:06Z</dcterms:modified>
  <cp:revision>45</cp:revision>
  <dc:subject/>
  <dc:title>Слайд 1</dc:title>
</cp:coreProperties>
</file>